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04E-5EC1-409D-A6A6-D80C6AD4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A8F-A10B-4D1E-AE55-110F8059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66F-9460-4930-B1F4-61FDC8A9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87A-A28B-41B8-B7FA-9237EF3E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4A6-1DD8-4CAD-BFBD-01217F5D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AEB-7D96-4184-B21C-9C07849D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564-6611-4AC0-8398-8FA8EE54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9F1-92A9-4210-ADE8-0DB4A3A5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E3F-0CF7-4EAA-83F8-4EEAD8B5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CED-3B1E-49C7-896D-5B831DE5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E09-D012-44E0-98AE-A8452ECE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42E-733A-402B-B91D-1BB99C07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FFBD-DD98-43E4-BAD3-2665B75B7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«Глобальные компетенции как компонент функциональной грамотности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14920"/>
            <a:ext cx="716112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692280"/>
            <a:ext cx="8820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онятие глобальные компетенции стало актуальным для современной школ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выражается сформированность глобальных компетенц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оссийских школьников  по итогам 2018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Проблемы разработки инструментария «Глобальные компетенции» в исследовании PI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оль школы в формировании у учеников глобальной компетент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, которые предстоит решить педагогическому коллектив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User\Desktop\slide-1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обальная компетентность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 многогранная цель обучения на протяжении  всей жизни. Глобально компетентная личность способна изучать местные,  глобальные проблемы и вопросы  межкультурного взаимодействия, понимать и  оценивать различные точки зрения и  мировоззрения, успешно и уважительно  взаимодействовать с другими, а такж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овать ответственно для обеспечения  устойчивого развития и коллективного  благополуч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bject 22"/>
          <p:cNvSpPr/>
          <p:nvPr/>
        </p:nvSpPr>
        <p:spPr>
          <a:xfrm>
            <a:off x="4716360" y="5516640"/>
            <a:ext cx="398160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684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ISA 2018 Assessment and Analytical  Framewor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22280" y="2506680"/>
            <a:ext cx="7705800" cy="45482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8" descr="Глобальные компетенции. ОЭСР"/>
          <p:cNvPicPr/>
          <p:nvPr/>
        </p:nvPicPr>
        <p:blipFill>
          <a:blip r:embed="rId2"/>
          <a:srcRect l="0" t="0" r="57385" b="36368"/>
          <a:stretch/>
        </p:blipFill>
        <p:spPr>
          <a:xfrm>
            <a:off x="684360" y="657360"/>
            <a:ext cx="7440480" cy="60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036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разработки инструментария «Глобальные компетенции» в исследовании PIS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Еще нет четкого научного определения и описания области, которая оценивае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Многие задания  были взяты в исследование PISA для апробации, т.к. у разработчиков не было единого подхода к определению что правильно, а что неправиль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Нет начальной шкалы измерения, чтобы выявить сложность зад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920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школы в формировании у учеников глобальной компетент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348000" y="3213000"/>
            <a:ext cx="2232000" cy="1079640"/>
          </a:xfrm>
          <a:prstGeom prst="rect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ние услов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92360" y="1628640"/>
            <a:ext cx="4967280" cy="1152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владения знаниями о процессе глобализации, его проявлении во всех сферах и влиянии на все стороны жизни человека и обще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6516720" y="3068640"/>
            <a:ext cx="2158920" cy="144000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аналитического и критического мышления школьни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250920" y="3141720"/>
            <a:ext cx="2376360" cy="143964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своения опыта отношения к различным культурам, основанного на понимании ценности культурного многообраз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1835280" y="5013360"/>
            <a:ext cx="5113080" cy="1079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школьники осознали собственную культурную идентичность и понимали культурное многообразие ми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0"/>
          <p:cNvSpPr/>
          <p:nvPr/>
        </p:nvSpPr>
        <p:spPr>
          <a:xfrm>
            <a:off x="4427640" y="2781360"/>
            <a:ext cx="3636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13"/>
          <p:cNvSpPr/>
          <p:nvPr/>
        </p:nvSpPr>
        <p:spPr>
          <a:xfrm>
            <a:off x="5580000" y="3753000"/>
            <a:ext cx="936720" cy="3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14"/>
          <p:cNvSpPr/>
          <p:nvPr/>
        </p:nvSpPr>
        <p:spPr>
          <a:xfrm flipH="1">
            <a:off x="4392720" y="4292640"/>
            <a:ext cx="71280" cy="7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5"/>
          <p:cNvSpPr/>
          <p:nvPr/>
        </p:nvSpPr>
        <p:spPr>
          <a:xfrm>
            <a:off x="2556000" y="3716280"/>
            <a:ext cx="720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, которые предстоит решить педагогическому коллектив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 условиях предметного обучения преодолеть «раздробление» предметного содержания в области глобальных проблем между учебными дисциплина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обиваться выполнения требований к метапредметным результатам образовательного процесса, используя различные формы межпредметной интег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сознать, что на понимание сущности межкультурного взаимодействия влияют не только учебные возможности отдельных дисциплин, но и атмосфера и стиль школьной жизни в целом, особенности различных взаимодействий, в которые вступают ученики на уроках, во внеурочное врем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ализовать на практике личностно-ориентированный подход, осуществлять уважительное сотрудничество всех участников образовательного процесс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лобальной компетентности – это составная часть целостного учебно – воспитательного процесса, который отражает объективную необходимость, связанную с требованиями времени, и субъективный запрос мотивированных субьектов образовательного процесса – учащихся, учителей и роди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икультурных и многонациональных образовательных организациях России существуют необходимые предпосылки для формирования осознанного межкультурного взаимодействия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8T06:04:26Z</dcterms:created>
  <dc:creator>User</dc:creator>
  <dc:description/>
  <dc:language>en-US</dc:language>
  <cp:lastModifiedBy>Admin</cp:lastModifiedBy>
  <dcterms:modified xsi:type="dcterms:W3CDTF">2021-12-29T05:58:40Z</dcterms:modified>
  <cp:revision>76</cp:revision>
  <dc:subject/>
  <dc:title>Слайд 1</dc:title>
</cp:coreProperties>
</file>